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8F2-D258-4D1E-9C3C-8F2FC041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47B-9DBE-4406-AE80-58D1BC2C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39A4-A353-4687-927F-D71159EE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F79-46D8-4497-B7DA-DA23DE59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A85C-CC6E-403D-A1B0-1C3E3B86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FFCE-DBCA-443D-8F11-2262C0BD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CF6B-6E75-4137-866B-95E36AE3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4F94-26BF-4093-8A77-87B4634D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59F2-D284-4B93-B401-DC414983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DC28-55DE-4382-B474-7F9876B4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C923-377A-4DA7-ACFB-805C72F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0E2-938A-41CF-9DEE-A08A5914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CF4E-C986-483A-B05E-B31D422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CA43-5567-4F27-808C-3C7771BD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35C8-11A2-477A-839A-0FEE7E26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72E3-C5F8-4D43-A52A-EE79ADF3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5394-E7FB-4A56-8751-34686413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3DC-F17D-487D-A526-7CF752A2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4BB-D642-4804-94F1-FC5D5E8B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260-D771-4ABD-AB10-4AD920A7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26C-0B23-4FC4-89D7-852BB892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44D-3BB9-435F-BD38-CD525FE2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327-8F04-4EE7-8D9E-3F216A3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5FE-BFC9-4049-9843-99BECC5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EF7F-E733-443B-A41D-1C8946E8AA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331C-391C-4AE6-A2F7-51FF051B20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raphical Log Analyz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dsey L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6 October 200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oject Go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the suitability of X3D/VRML for use in developing a graphical log visualization to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S, System Logs, et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phasis on coding features / interoperability potent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on determining the most effective visual re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itial Attemp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Script No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dn’t work since code in the browser wouldn’t talk with code outside the brow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I used the network to send mess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800600" y="2971800"/>
            <a:ext cx="3463560" cy="2839680"/>
            <a:chOff x="4800600" y="2971800"/>
            <a:chExt cx="3463560" cy="2839680"/>
          </a:xfrm>
        </p:grpSpPr>
        <p:sp>
          <p:nvSpPr>
            <p:cNvPr id="217" name=""/>
            <p:cNvSpPr/>
            <p:nvPr/>
          </p:nvSpPr>
          <p:spPr>
            <a:xfrm>
              <a:off x="4800600" y="2971800"/>
              <a:ext cx="3463560" cy="2434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75640" y="5351760"/>
              <a:ext cx="296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JVM2 (In Brows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H="1">
            <a:off x="6171840" y="3962520"/>
            <a:ext cx="12193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JVM Issue With ScriptNod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85800" y="2971800"/>
            <a:ext cx="3428640" cy="2814840"/>
            <a:chOff x="685800" y="2971800"/>
            <a:chExt cx="3428640" cy="2814840"/>
          </a:xfrm>
        </p:grpSpPr>
        <p:sp>
          <p:nvSpPr>
            <p:cNvPr id="222" name=""/>
            <p:cNvSpPr/>
            <p:nvPr/>
          </p:nvSpPr>
          <p:spPr>
            <a:xfrm>
              <a:off x="685800" y="2971800"/>
              <a:ext cx="3428640" cy="24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000" y="5326920"/>
              <a:ext cx="89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JV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0" y="3581280"/>
            <a:ext cx="13716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572000" y="2895120"/>
            <a:ext cx="9907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0804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057400" y="259092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90512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ava 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276720"/>
            <a:ext cx="13716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715000" y="3504960"/>
            <a:ext cx="763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419720"/>
            <a:ext cx="13716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3429000"/>
            <a:ext cx="13716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2514240" y="3809520"/>
            <a:ext cx="2438280" cy="7621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7452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1905120"/>
            <a:ext cx="19810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wser 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7314840" y="2590560"/>
            <a:ext cx="22860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038480"/>
            <a:ext cx="457200" cy="2133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114800" y="51814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828440" y="63244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40880" y="5943600"/>
            <a:ext cx="140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AI (External Authoring Interface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ded up using EA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es Applet interface with VRML window in same Brow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Cortona 3.1 and the “original” eai 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rml.external.*, in plywood.j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752480" y="2362320"/>
            <a:ext cx="44960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666880" y="3505320"/>
            <a:ext cx="3463560" cy="2839680"/>
            <a:chOff x="2666880" y="3505320"/>
            <a:chExt cx="3463560" cy="2839680"/>
          </a:xfrm>
        </p:grpSpPr>
        <p:sp>
          <p:nvSpPr>
            <p:cNvPr id="245" name=""/>
            <p:cNvSpPr/>
            <p:nvPr/>
          </p:nvSpPr>
          <p:spPr>
            <a:xfrm>
              <a:off x="2666880" y="3505320"/>
              <a:ext cx="3463560" cy="2434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98720" y="588528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JVM1 (In Brows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>
            <a:off x="4114440" y="4495680"/>
            <a:ext cx="11430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A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2514600"/>
            <a:ext cx="19810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wser 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257800" y="320004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2514600"/>
            <a:ext cx="19810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et 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3276720" y="320004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1981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191120"/>
            <a:ext cx="13716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4267080"/>
            <a:ext cx="137160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I/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AI Techniqu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Brow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with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VrmlFrom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EventIn (addChildren,transl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d objects into wor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ile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e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ed EventOutObser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e callba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m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7816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dvant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tential to hold massive amounts of information in a sce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ual perspective has a natural benefits (more detail for more recent eve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cene “storag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registering for callback, send object: stores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5:12:03Z</dcterms:created>
  <dc:creator>Lindsey Lack</dc:creator>
  <dc:description/>
  <dc:language>en-US</dc:language>
  <cp:lastModifiedBy>Don Brutzman</cp:lastModifiedBy>
  <dcterms:modified xsi:type="dcterms:W3CDTF">2003-02-16T02:59:40Z</dcterms:modified>
  <cp:revision>2</cp:revision>
  <dc:subject/>
  <dc:title>Graphical Log Analyzer</dc:title>
</cp:coreProperties>
</file>